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2B17-97A8-4993-B005-743BEDDD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0E6-321B-4F1C-9CA4-5AE97576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543-126F-44CA-9302-D138610F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C80-0068-4A7A-AFED-9F20E702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92A-2952-4A2C-B1C0-9DA58C99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62A-4F74-404B-9555-6B9D7856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F03-6D0D-4F8C-87E5-96DDF6C3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9A2-2B54-435E-9B06-D23C8727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F195-B3B0-437D-978A-EAC562A3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C2C-9ADB-4AFC-A801-0B581399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1854-662F-4278-A404-77DD6B7F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1D9-90E6-4817-8F94-91535386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8E11-7CF2-49D9-847F-2F8741DF4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28600"/>
            <a:ext cx="5715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away “en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’re left with the 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how we conju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do it aga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h (I) add “e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 (you) “s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, sie, es, (he, she, it) all add a “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5:36:34Z</dcterms:created>
  <dc:creator>udsd</dc:creator>
  <dc:description/>
  <dc:language>en-US</dc:language>
  <cp:lastModifiedBy>udsd</cp:lastModifiedBy>
  <dcterms:modified xsi:type="dcterms:W3CDTF">2009-01-08T16:00:17Z</dcterms:modified>
  <cp:revision>2</cp:revision>
  <dc:subject/>
  <dc:title>Slide 1</dc:title>
</cp:coreProperties>
</file>